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3B1-D8A8-4A52-93AF-43223C9A7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7EC-1E04-46C7-863E-B2EAB7ED8FFD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Po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BEA-F466-487A-B993-94D8443FD04F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S works in conjunction with po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manteau:  blending of words, morpheme – stagflation, modem, brunch, netiquette, smog, spork. Lewis Carroll, Alice in Wonderland, Jabberwoc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aded on most MP3 players, depending on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4900-7942-4382-B294-9D2033A9C420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acity – this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gets – well…  Look for the podcast I posted on Bb.  One is through the Bb podcast feature and one is through TribalSh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ACB7-CE88-4018-9428-BB6633B5D105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 – Microsoft music format – industry atandard. – Powerpoint 2003 only supports WAV, but 2007 supports m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?Napster – impossible w/o m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y, some raw data is removed, but output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DCA7-6C5E-4D56-9536-EFBA6010AD8A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edit music, import sound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E encoder – a DLL that helps out Audacity.  It’s not built in, but once you associate the file, you’ll we good to go from then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bviously use for activities that don’t involve podcasting – spanish speaking points..  Archives.  Latin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388-98A8-45C4-B4A0-E0B8DB3F2035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quality:  you don’t need CD stereo quality for voice – I use 11.025, telephone quality for most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’ll see with Audacity and many other podcast systems, you are limited tho 10 MB per podcast.  If you go with CD quality, it’s 1 MB per minute, so 10 minutes.  You can go well over an hour with lower sample rates, with minimal degradation for our 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udacity, I’ll show you how to modify the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A4A-8A7C-45B7-9556-056A9CB7505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use podca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the link to wikipedia – from there you’ll find links to examples.  Warlick and Richardson also have some links in the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E9E-572A-4F8D-957C-471748D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36F-D6F8-4D8C-8EB7-87B45434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D0B2-0765-49AF-B38E-CCDA91F8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B47E8-4F23-4343-A6A2-BDBC0F0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32B46-0008-49C7-87A6-E4A6B5F5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DC32-5F82-4B36-97A1-BE21D85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0F34A-7D01-44F6-BFD7-8FF12F6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6CB5-9941-44B6-A116-290C87F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48C21-A982-4553-BB2B-193A23F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8473-6542-4B14-88C7-8301794D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53744-1575-4D8C-B154-115E81FF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CB3A-8407-41FE-8187-EBE749B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C86-5351-4452-AFB4-CDB4650B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1B934-9319-4D92-A527-2F900EB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2569D-56EF-4A4D-9D76-CADC922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3569C-D96F-4149-8CB8-8789E15A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BB019-7624-47BE-88A6-88D244E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4468-2CDE-4434-905F-E5A2C49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822BA-E450-416D-AE78-9268E38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6043D-FA4B-43A9-9F4C-C82BCB6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423A2-0336-4F57-84AC-91CA528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D6204-BD25-4D59-9057-B37F90E0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3A717-9977-4987-85B8-A201A125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D7A-EDBA-4D5F-91E1-68D72EF6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E81BF-A1FD-4176-A683-E18C6FCF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CC6B5-2053-4238-998B-5F4A4B3F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01ABE-E352-4171-BDEB-01B46CB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1263B-766D-4C12-B2F4-C7EE2CCC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3E52F-098F-4E32-A7CD-D87C4D9E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9942C-45DD-4BF5-B542-9AF2FDB7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4E2E4-7B00-4ED2-9F6B-47DB7C95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E894-82A2-4669-9EF0-B8E8314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6CC55-0266-4329-9697-4E6E200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EF3B-157E-4E5E-8C8E-EE82E2F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9C06-2DB8-428A-BF7B-AE0A3F10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6A645-AABF-499A-AD76-AEA4E070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E8EC-4543-4AC5-BB89-9C01E982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16489-C865-42D0-BC0C-2FDB9244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8EF91-D90B-4F1B-92F4-393C309D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BDD99-24A6-4F68-9673-4567AB4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1C23E-24E7-413A-B320-CC41DD1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9F6F2-BA5B-4F2A-9CA2-06910BF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1A455-9F7C-4C3E-A9EE-F8CEFB02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37FA0-887C-4FEB-96B1-385C7F30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35A18-32EF-4813-94D1-B7547F4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06E7-2206-4DC3-93D8-901EBAA4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029CF-6974-4528-BC11-90E8F1B8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B1A8D-3A5D-4353-898D-8772902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84B9-7EA8-4D06-B03F-34C22D3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D8D29-7583-4F4F-B871-CDF0987F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88C87-4A28-4833-894D-33EB6F6D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A015-EEA0-4BB8-B57C-B551178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8001-E96C-4B0A-B225-E0425D1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CE1-6CFE-4105-9DE7-CC99F30E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6CA-0506-4BB5-A69F-D72A3A10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3E49-29C5-4FAA-8B48-300132F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1FB-5A3A-44C1-8604-4F50D4C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80D-F1C3-4FE6-8E11-310CB1B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452D-9F28-4136-9B95-8863147C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9C1E-AC16-4B8D-84FD-500A7EE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C0B9-3FB0-4EDC-8015-FD33C11F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E2AE-CB2D-47C2-A7C0-76D32F20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1A6E-A76D-407B-B06B-1E70B72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EC24-BA69-43A7-A4B5-84233D9B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E138-497E-4948-AA6A-DB7BDF3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C083-7947-4110-BF87-0299C89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088B-5790-41B1-B59B-ACF378D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57C-0EE6-45E0-B550-1DBE1009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A2D2-FFFF-4A71-AEF7-0DD6920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89A0-FBEB-4387-9691-594F8EB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4346-2008-433A-8EA4-A2E2D5F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9BAC-A61E-4548-8487-A4F125F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BCDB-59D0-4F19-A267-1D8668F7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9BD4-7CAA-48BD-B80A-E517190B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09AA-7D84-41AC-94D9-0EBDCAF9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3498-EE2D-47F8-B923-90385A0F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4C35-8479-4633-AE14-8F53A276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5F31-CC26-46BD-AB41-8C15D325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37C-8AAC-42D3-B278-1293D3D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6F8A-08FB-4E49-AA22-0314A5E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2C4C-2F56-4307-9F3D-1DEBE03F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3884-B280-4AE1-9CB9-B609865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B56A-A440-4A50-9AEE-91C00D6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E3AA-85F4-4CFC-9571-B13FF75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BB38-B722-4BF7-B5D1-A32FD5B9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7EC7-1F46-4F20-8F70-71A93D6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3538-15AC-4FB5-BD9F-8BB2481B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6AA8-1159-42DF-8837-E8014A0E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27D5-47B9-466E-9A1A-213E673B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2CA-1357-4127-8EEB-5FEE374C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DEFC-5326-456B-824D-D066EA78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B9ED-DA0B-475F-952B-8E55606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35B1A-4AA7-4FB4-86A4-B21EB659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2C7C-8C74-43DF-8210-EBA2371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09E2-A593-49F2-AE80-52535285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BB3E-6C50-43E3-9E30-180F2A6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E255-B74B-40F8-847A-B4C2C44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A5071-47EA-4DED-B66B-FDC924F0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D1AA-C5D1-443F-9671-F6B7603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5F0B-5BCD-46EA-BF4F-D6EE85B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BCA-F854-4122-9CFD-E68CA7E0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B495-DE9F-4457-8522-66964AAC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1F71-F5CA-4EFF-9B54-C90C5C71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E6A9-ECE3-4BD2-BD95-4675D37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9AFB-091D-415C-869B-1D225571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D11E-D497-4F6A-B459-3C9A2621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B221A-08D2-4112-ABF8-276F846F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D0B62-2E6E-474A-A8BB-ACBAF1E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267AA-95E6-46B7-A253-8FFFC9A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17C5-3B74-4402-BD2F-1009FB2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690C-98FD-43E3-A69F-8EAFB10D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01C-C2DF-494B-8E2D-94E116C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0001-415A-40C3-ACED-C5895EDB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57D5-2E32-4BC1-AC35-2E1B72B9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134F-22AF-4741-B4E2-BEA53251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48EE-A8BC-4D24-B8F4-20A4214B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C78C-85E5-408D-8E63-CEBF071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6B44-6AC9-4BBB-B5C6-0EE4DC2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CAD43-A0BF-4BA6-AC48-994BB7D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F77E8-0008-439F-BC38-417528EF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00C4D-0E48-48BC-9360-92F6339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5FD0-435D-42D6-BD1C-2CACC63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22A-8F98-45D9-A46C-F55B2F4C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6B63C-DDCE-4603-97CD-52FFD77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7A15-90FE-4E83-9874-D605079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C2D4-6918-484C-AEE3-BADEAE6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709C-A584-4CA0-BB4C-4FA9A4F7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2F85-FD8A-49E8-83B1-23473889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68111-337B-47A3-8E2D-9CF01EC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0016-7FAA-4400-AF11-0A565F3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520A7-0412-4F93-A9D1-446021F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23BA-52C2-4C78-BDE9-4E7A9817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ACC2-1C29-4D97-BF2A-D9EDE9D4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FDC-0519-46C3-94D0-EE41E74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2D07-98F1-4663-AB75-FE63A1F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54D8-1EC1-4CB2-8ECE-D913D6F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53957-92BF-477A-B6A9-197281F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6746-F87A-41F0-ABB8-5695E27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3FD3-5C2A-4A6E-BED1-3FBDF4A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B5E3-933F-4EE8-9C52-9664D1C9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F129-4F79-4BE0-AC6D-647F5C27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D7EB5-C2E2-4CE1-86C6-84D3E069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582D8-EA72-40C1-A9DA-41643694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2C284-749D-484F-9E6B-BA7AEFE7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17C-4A78-4277-9669-3044836C7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63EF-8DD7-436F-BEBF-CEA6D99F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F45-96DA-4208-8FCF-CD80A937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D1E-C018-4247-AACD-595BB58C994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085-0557-4DCF-978C-5CB0299AA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264-036F-41A0-9A5F-099F20FF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89F-012A-4450-80E5-56A73CFF2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A96-FCB2-42B5-98A1-B9E8F9FB9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1234-B779-4A5B-B78B-4618C304A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0F4-7233-4709-9A20-3DC0238C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9E40-4588-46F1-89BC-5558156C6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9023-676D-43C5-A056-BB86A02DE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eb_syndication" TargetMode="External"/><Relationship Id="rId2" Type="http://schemas.openxmlformats.org/officeDocument/2006/relationships/hyperlink" Target="http://en.wikipedia.org/wiki/Web_feed" TargetMode="External"/><Relationship Id="rId3" Type="http://schemas.openxmlformats.org/officeDocument/2006/relationships/hyperlink" Target="http://en.wikipedia.org/wiki/Portmanteau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Podcasting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odcast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is a digital media file, or a bunch of such files, that is distributed over the Internet using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syndication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feeds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, RSS, for playback on portable media players and personal computer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lso known as an audio blo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term "podcast" is a </a:t>
            </a:r>
            <a:r>
              <a:rPr b="0" lang="en-US" sz="28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portmanteau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f the words "iPod" and "broadcast "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riginally from iPod, but POD now means Playable on Demand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 iPod is optional, not required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odca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xisting educational podcasts available for free use in all subject area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ree program, Audacity, allows you  to create mp3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dgets allow podcasts to be embedded in a Web pag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odcasts (online delivery of video) are possible, but more difficult to implemen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udio for the Web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dern distribution of music across the Internet through on-line stores depends on digital recording and digital compression algorithm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– layer three of MPEG (Motion Pictures Expert Group)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is 10-12 times smaller than a WAV (Waveform audio format) fil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P3 uses lossy compression, much like a JPEG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udacity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free recording application that can create WAV and MP3 file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racks are separate recordings of multiple sound sources to create a cohesive whole similar to layers in a graphics program; this allows for greater flexibility and creativity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xporting MP3s requires the LAME encode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AME is a free DLL file used to encode audio into the MP3 file format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ample Ra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3382920" cy="1847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3364200" cy="1836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3"/>
          <a:stretch/>
        </p:blipFill>
        <p:spPr>
          <a:xfrm>
            <a:off x="1523880" y="5025960"/>
            <a:ext cx="3353040" cy="18320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0"/>
          <p:cNvSpPr/>
          <p:nvPr/>
        </p:nvSpPr>
        <p:spPr>
          <a:xfrm>
            <a:off x="5029200" y="1371600"/>
            <a:ext cx="3773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Radio Quality is adequate for most voice recording; you do not need 16 bit stereo.  A four minute song recorded at CD quality would take around 41,280 KB, that is, 41 MB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P3 compression (10X) would make the same song about 4 MB, without loss of quality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Go Napster – and iTun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ducational Us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rect instru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ligious Educa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udent created work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ournal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adio Program – original music</a:t>
            </a:r>
            <a:br>
              <a:rPr sz="2800"/>
            </a:br>
            <a:br>
              <a:rPr sz="2800"/>
            </a:br>
            <a:r>
              <a:rPr b="0" lang="en-US" sz="1400" spc="-1" strike="noStrike">
                <a:solidFill>
                  <a:srgbClr val="080808"/>
                </a:solidFill>
                <a:latin typeface="Tahoma"/>
              </a:rPr>
              <a:t>http://en.wikipedia.org/wiki/Uses_of_podcasting#Education_and_Academia</a:t>
            </a: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52:14Z</dcterms:modified>
  <cp:revision>112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